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D9D-5065-4136-8455-EFBBF16C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862-5DBA-4B11-AE77-1B86E4E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5E3-184E-46B6-837A-ED4E8E61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665-2654-407D-85AD-133F1A4C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C44C-E809-4199-B05A-95F678F6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BC8-4E4D-4155-8DF1-428C6798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48AF-0661-4B55-900F-E6B8148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1921-0A2F-4F0D-8F44-7763A901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30C3-8EBC-45B0-8D3C-D9789DFA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9E05-AB05-452B-9226-65D39BF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FE9C-DFFF-4609-AE33-8FC2D91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D6B-F47B-4166-A21D-489B485B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F407-B70B-4142-960C-E6B7C77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95D3-1AEE-494D-BA52-A3791C2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C209-FA37-49D3-A402-DFD72B6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BF1B-A951-4CDA-B2C2-1599BE17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77E-1B46-413E-8159-55D1FE81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F66-0040-4670-8B9E-A763FBD4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2C1-1224-40D2-B036-FE53B0E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4A8-A094-444C-A719-66097FA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00F-FEBB-4860-98B7-24F5E312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A4D-2CF5-4DF5-A737-8EE76CEC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303-9CC9-45F3-B0B2-3C4EB47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6CA-7F6C-41CF-ACFA-3C6F3B9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1E6-F395-4EF6-8059-64607873598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CDF-A992-4685-B570-AF448065E08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1170000"/>
            <a:ext cx="8242560" cy="281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 ученик 9 «г» класса Рома Пет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Мои документы\Мои рисунки\doz.jpg"/>
          <p:cNvPicPr/>
          <p:nvPr/>
        </p:nvPicPr>
        <p:blipFill>
          <a:blip r:embed="rId3"/>
          <a:stretch/>
        </p:blipFill>
        <p:spPr>
          <a:xfrm>
            <a:off x="1285920" y="1428840"/>
            <a:ext cx="64198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Мои документы\Мои рисунки\1-web.jpg"/>
          <p:cNvPicPr/>
          <p:nvPr/>
        </p:nvPicPr>
        <p:blipFill>
          <a:blip r:embed="rId3"/>
          <a:stretch/>
        </p:blipFill>
        <p:spPr>
          <a:xfrm>
            <a:off x="1571760" y="142884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дные условия мешают нам бегать. Если погода ветреная или дождливая, то просто можно промокнуть и простыть, а против сильного ветра вообще нет смыла стараться сопротивляться и бежа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ман, дожди и ливни и т.д. также являются помехами, так как способствуют невозможностью занятия бе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\Мои документы\Мои рисунки\a0e456a138b6.jpg"/>
          <p:cNvPicPr/>
          <p:nvPr/>
        </p:nvPicPr>
        <p:blipFill>
          <a:blip r:embed="rId3"/>
          <a:stretch/>
        </p:blipFill>
        <p:spPr>
          <a:xfrm>
            <a:off x="1214280" y="1357200"/>
            <a:ext cx="6786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мя суток – важная сложность в беге.  Если мы бегаем в темное время суток, то видимость практически нулевая, что делает практически невозможным занятия бегом. И вообще ночью надо спа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81160" y="96840"/>
            <a:ext cx="8807400" cy="144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ое развитие человека – это основная сложность, возникающая при занятии бегом. Ведь здоровый и натренированный человек будет заниматься бегом в удовольствие, а если человек слабый и больной то чрезмерные нагрузки только ему навредя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ости будут в основном для слабых людей с плохой «дыхалкой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из нас знает что спорт и вредные привычки вещи не совместим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коголь              курение                     нарко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dmin\Мои документы\Мои рисунки\DSCF7588-web.jpg"/>
          <p:cNvPicPr/>
          <p:nvPr/>
        </p:nvPicPr>
        <p:blipFill>
          <a:blip r:embed="rId2"/>
          <a:stretch/>
        </p:blipFill>
        <p:spPr>
          <a:xfrm>
            <a:off x="285840" y="3429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Мои документы\Мои рисунки\smoker.jpg"/>
          <p:cNvPicPr/>
          <p:nvPr/>
        </p:nvPicPr>
        <p:blipFill>
          <a:blip r:embed="rId3"/>
          <a:stretch/>
        </p:blipFill>
        <p:spPr>
          <a:xfrm>
            <a:off x="3000240" y="3429000"/>
            <a:ext cx="2928960" cy="1933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dmin\Мои документы\Мои рисунки\51800008_9c46c27ae1cc.jpg"/>
          <p:cNvPicPr/>
          <p:nvPr/>
        </p:nvPicPr>
        <p:blipFill>
          <a:blip r:embed="rId4"/>
          <a:stretch/>
        </p:blipFill>
        <p:spPr>
          <a:xfrm>
            <a:off x="6000840" y="3429000"/>
            <a:ext cx="3024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я некоторые исследования, я пришел к выводу, что помехами при в занятии бегом являются следующи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фактор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дные усло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мя су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ое развитие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дные привы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unter0k</dc:creator>
  <dc:description/>
  <dc:language>en-US</dc:language>
  <cp:lastModifiedBy>Hunter0k</cp:lastModifiedBy>
  <dcterms:modified xsi:type="dcterms:W3CDTF">2010-06-07T16:46:43Z</dcterms:modified>
  <cp:revision>6</cp:revision>
  <dc:subject/>
  <dc:title>Слайд 1</dc:title>
</cp:coreProperties>
</file>